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B36-0D78-4A16-9A05-396C2F4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764-0AC9-412F-A23F-C6C02BC3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265-C7BB-4681-980B-DE4E65EE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00D-34F3-4962-AE02-8DBEC122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6DF-3078-42F8-A720-9251F4C8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4D5-0A30-466F-A633-31005F6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4A3-4417-4D79-AAF4-F7774F7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1EF-99E9-43F6-A627-E0FAED79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596-143F-4140-89C0-C02FD7C3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BB4-AC96-4534-9412-1A7CCCD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085-2DCE-4140-A610-421635C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E7C-5D1D-49A0-B93F-737C278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EDF0-DCCD-406F-86DC-C111C240DCD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48:11Z</dcterms:created>
  <dc:creator>Branko Kolesarić</dc:creator>
  <dc:description/>
  <dc:language>en-US</dc:language>
  <cp:lastModifiedBy>Branko Kolesarić</cp:lastModifiedBy>
  <dcterms:modified xsi:type="dcterms:W3CDTF">2011-10-13T08:48:50Z</dcterms:modified>
  <cp:revision>1</cp:revision>
  <dc:subject/>
  <dc:title>PPT</dc:title>
</cp:coreProperties>
</file>